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FEC-511F-467C-AD74-5B61B7F1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570-A375-44E3-8647-B9357339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C27-7460-46BA-A051-14DD5128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CE0-623C-405F-A429-E754811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D73-9D8B-460A-B6FD-94499B91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8CD-3DC2-4B4D-89C9-F39CC02C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C95-D7D2-4F80-9AEE-646E8A8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BB5-C228-42CF-B978-8A773E54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047-AAB0-4E6D-9BE4-55CEE0F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DDA-1779-49F8-8764-830CB8B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6E1-C8C6-47A7-97C1-950A2166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9B7-C28B-4A7F-97F1-91527FA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760F-90E1-4B96-B5ED-D650B8D1F96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3 Bože, ty si chránil, vied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Bože, ty si chránil, viedol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od mladosti krok môj sám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v svojej láske veď ma ďalej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riamou cestou k výšiná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če, veď ma, Otče, drž 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púti zomdlie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šny svet ma na zlé zvádz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ušení strojí sie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byť, Pane,  stále pri m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ovom pravdy do tmy sv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chvíľach šťastia 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či v búrka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om svojím k sebe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ma k práci užitočn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ň i v odpočinku z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ma v bázni tvojej chod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uč vykupovať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, keď sa mladosť strat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si ty môj žiti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če, prosím, uč ma žiť ta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žil môj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ou a láskou čist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a môj život sk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len tebe, Otče več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lospev môj vďačný zne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6:31:17Z</dcterms:modified>
  <cp:revision>84</cp:revision>
  <dc:subject/>
  <dc:title>Je veľký náš Pán, on slávy je Kráľ Nech do všetkých strán  spev vrúcnych znie chvál.</dc:title>
</cp:coreProperties>
</file>